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08BE-F95C-49EB-AC6D-DEF6E523D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08F0-A191-41EA-BFA4-991A8CE4FB2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8504D-D86C-4E5B-A1CE-576230F9C01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285CB-3C20-425B-BB51-8E2CBFFAEE7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0A92D-CC51-403D-8DB9-F6D0486ACE6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A34F5-8F80-47D1-903A-9E1C85123B5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DB850-E420-43AA-9ACC-32C28CDF6DF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D5372-D77B-4241-8778-0B19492ECD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0DB03-C5BA-43FB-A4AC-F36BEA77061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331AB-7CC4-4E64-B69C-DCA4B0A5FC9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B8542-322C-4F70-AC0F-2B175B4D6AE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0711-1C0A-477D-ACC5-17C4F0A18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A620-AC3E-46B3-AEA3-E7F14B420B2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8C89-9DB6-4E75-9841-7E649778C64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8C49-F8AF-4062-BE19-A609309EC67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253D-AFC2-4568-85AB-3CB7A7E6C7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44E5-BB30-4987-B551-3F59F6A501A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39CE-3FDF-4BFD-BDC5-22ECA17D079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0F3D-9C2C-45F5-9EC2-6CF5DB4DE9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60190-6B84-405D-AEF0-3966DFB5454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69D5-7011-459F-A087-26F4F5C81AB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CAF1-90C1-46B0-BCD3-6BE863D27C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E115-0771-4B09-9F81-8D60CC4AD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279C-C1D0-4B3E-9639-D75E46BF67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BE9B7-A931-49E4-903F-81A5A6D8716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A8208-E2F7-4004-BCDC-834F6BA15CF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ADEFB-451B-4C61-A365-1634CFA2DD5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009E9-BF5F-4D26-AB6B-40450FC975C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B898A-5C44-46E5-B4DF-D37E7E2801A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3A6A5-585C-4816-93C6-EB6522EC70F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BC7BB-7612-4152-BD20-0B75FBFA47D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AB7AB8-3511-4BD7-92AA-04CEBE1D9BB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1F115-1BA3-409E-85D6-45C16FFC5BD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FC8270-9090-4141-9741-2D9B65326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BDF5-45DD-4A64-AAD6-80E773B3E18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77D79-6227-4528-AA30-1F3D9842D7C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F40E26-EF0D-495F-B0F4-310625AE432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DE5E0-B206-4EEB-8435-C70194DEE3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FFDE-11E2-4DB7-A67E-8448627B21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AC16-E530-4193-A4A5-CE99EF1B1C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EB77-E9D8-4961-9BFF-A16B441EF4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1084-2E6E-4F0F-BBD6-C3C35A97AE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7FEC-3567-4F94-BDEE-082B755B55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590E-2AD8-4297-9093-A870828DB7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8CFE-FEC8-44BB-8528-5D88E5433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17BB-42A3-4999-BD89-E3CD8BF76B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4F29-7A2F-48E1-A8A5-471C652E89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2063-2FDF-4C42-B761-9ED77A9E2F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98E5-B8F1-4721-8FAB-5571428920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0B6F-E455-406A-99D2-D7C5812951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FFB-6182-4E94-833D-9CBA2E9D81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084-D484-42E8-A65A-2319CFF372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048-5432-4E07-AD90-6C1742ABD0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F4F-FB92-467C-A164-0D80707A08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A2E-A58F-4CC6-99CE-A71FBF861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7A34-1191-4062-9824-B4ED123A04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1F6-741F-49EA-8CBF-7DA5C5A9B3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13E-9EC3-40DE-89E6-3A8D42C9BB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DB9-13FD-47CA-A721-11D2469FB9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8BE-E64F-4C9E-ACBE-EBA736593C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439-5F2D-4532-9C18-52CD4588C3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CCE-849D-43BB-A621-54D161E935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906-36A8-4B67-AEEA-BCA3768783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F0EE0-BF7B-4D96-9D62-6E70E30CB3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61543-DB5A-4CB2-BF92-DBBC441F4D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24020-C6F5-4814-B7FE-A44F5C5B4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10BE-78DF-41DD-8D9D-0BB7695696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C1FBD-1B8A-4A23-9E7B-6D8FFFA2A3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A02AC-D445-417E-A287-F0E6F85D06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DD038-21EA-4706-90B1-E5B29EFCAA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4F69C-37BA-404B-97DD-FCB1F342D8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B5960-FF72-4B11-9844-D394D30AA1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64901-A276-47CE-8EB4-FE4415B23B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504CE-2A9C-4549-8B10-9E270651C2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81FBB-9364-4198-BA12-29F3E844FE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04DB1-DEAA-4A7F-A2F7-15EE909CBD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059B8-BC6E-4D86-9EEE-A5D465A3D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9E0C-830F-4413-A681-161481BCCBB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8DE80-7497-4C87-AD76-0EB8441E955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2830B-E3BE-41E5-AD07-74704827C80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7E111-7B1C-415B-B828-E88FE68BA1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6687E-75E2-4E5A-8DC1-B6CBEF01B9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71EEB-E4A3-42B9-92E6-62016A5B7FC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6A0A0-3945-48E5-80D3-DC3F4B044B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E357A-76C2-43DD-BD9F-D5D55BB20A2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CA089-7B59-4513-ADC5-4A6B8AFDA6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293F9-2718-4455-9937-CB814180C8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A40AD-9830-43E6-BAF3-23BAA1EAD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E95A-40CA-4FB9-B3EA-9C68C414D08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C7879-6477-4C64-8EB8-E794479E470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5E44-4B19-419C-AC01-D0ACFA35C31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E14E-C456-4986-85B5-284E6A51E0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AD02-59EE-4BE7-BD86-106E30A2E34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94DC-EFEB-49A0-87ED-66F1F242CB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E5E-00B5-4D78-B04D-A36229B5F7A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9373-9FF6-41FB-ADEF-AB70BE7317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DD68-483A-4609-9F09-1E6E720887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8A6F-56AD-4331-B92F-E0F38F4DF60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D1CA-0BF4-4578-8855-6BCABE3CF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248E-3A91-41AA-A04C-DF71E4A3A78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6925-B2FA-4709-B680-37A949F547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EFC9-35E1-4BB1-89E2-8E6B76A612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C281-FC28-4E12-A179-6D52CA4DCEA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F2F4-6AD4-42D8-9F19-C11A79DE83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A1ADA-74DA-4FC1-8F75-6B6406B8446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9A290A-BD2D-4182-8640-B8D11F67E4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759361-FCC0-44A7-B72C-30C6D3D66AC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F3407-B1E8-46C6-882A-5D3DD7CE1B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53B1D-BBB2-4217-AC84-996ECD028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65B9-7B47-49C6-B1AA-0B0CB96FD80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52FB5-7136-412D-8AF1-A0A31178F0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FDEF9-22D5-420B-A536-1C49DA1997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04D4D-5A1B-4BE2-8A6A-737326C757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4354E0-9BA4-45A6-BA4D-C30C3026C96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156B9-8198-419E-B91E-137DB54176F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20812A-1D2E-4FB0-9862-CB8D4E9F6E8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56691B-4EB8-424D-9ACB-8DE92B97241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C7F6D-336B-4294-9142-C7010187711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1BDB0-81EB-46FB-A6BA-5B30182C76C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0F011-CF8E-49C7-B837-FD3B55E9A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726320" y="6400800"/>
            <a:ext cx="3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B4B9-E73E-44A4-8D7E-0361DF0ECE3A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26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398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97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97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97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sldNum" idx="9"/>
          </p:nvPr>
        </p:nvSpPr>
        <p:spPr>
          <a:xfrm>
            <a:off x="7726320" y="6400800"/>
            <a:ext cx="3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B542-41D6-4785-9E4E-CA49D74E0CC7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ldNum" idx="10"/>
          </p:nvPr>
        </p:nvSpPr>
        <p:spPr>
          <a:xfrm>
            <a:off x="7726320" y="6400800"/>
            <a:ext cx="3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E44C-6022-4D59-A558-5D8885AABD14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ldNum" idx="2"/>
          </p:nvPr>
        </p:nvSpPr>
        <p:spPr>
          <a:xfrm>
            <a:off x="7726320" y="6400800"/>
            <a:ext cx="3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4969-6EDE-4B37-821C-2EEBE01EB4B2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ldNum" idx="3"/>
          </p:nvPr>
        </p:nvSpPr>
        <p:spPr>
          <a:xfrm>
            <a:off x="7726320" y="6400800"/>
            <a:ext cx="3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992B-A347-4F79-8ABB-BCA02F5724C7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ldNum" idx="4"/>
          </p:nvPr>
        </p:nvSpPr>
        <p:spPr>
          <a:xfrm>
            <a:off x="7726320" y="6400800"/>
            <a:ext cx="3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3A38-CAE5-4177-BC42-FE64783A3E4F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5"/>
          </p:nvPr>
        </p:nvSpPr>
        <p:spPr>
          <a:xfrm>
            <a:off x="7726320" y="6400800"/>
            <a:ext cx="3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DBA2-216F-4C9D-9894-5A44AB9BD6C8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ldNum" idx="6"/>
          </p:nvPr>
        </p:nvSpPr>
        <p:spPr>
          <a:xfrm>
            <a:off x="7726320" y="6400800"/>
            <a:ext cx="3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DE9F-A6D7-412E-97A3-FCC711C7DD76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ldNum" idx="7"/>
          </p:nvPr>
        </p:nvSpPr>
        <p:spPr>
          <a:xfrm>
            <a:off x="7726320" y="6400800"/>
            <a:ext cx="3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CE83-90EB-4870-9AF1-82C98BC65FE7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sldNum" idx="8"/>
          </p:nvPr>
        </p:nvSpPr>
        <p:spPr>
          <a:xfrm>
            <a:off x="7726320" y="6400800"/>
            <a:ext cx="3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06B5-A3F0-433B-8D42-C029169F4180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39640" y="1341360"/>
            <a:ext cx="82296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so: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  <a:ea typeface="Verdana"/>
              </a:rPr>
              <a:t>C.I. Cultura del cin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ente: Prof. Luigi Bellavi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LM a cui è offerto: tutti i CdL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(NO 1° anno Pssd e D&amp;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mestre: 1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gua di erogazione: italia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° max studenti ammessi: 9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alità d’esame per non frequentanti: S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1026000" y="158760"/>
            <a:ext cx="67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Laurea Magistrale - 1° semest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4788000" y="6583320"/>
            <a:ext cx="436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zione Corsi a scelta II Livello – settembre 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546120" y="4165560"/>
            <a:ext cx="84074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linguaggi, i modi narrativi, le estetiche del cinema sono le matrici di ogni forma narrativa dinamica sviluppata nel XX secol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tte le forme espressive della comunicazione commerciale o d’impresa risentono delle scelte operate dai grandi narratori cinematografic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431360" y="158760"/>
            <a:ext cx="585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  <a:ea typeface="Verdana"/>
              </a:rPr>
              <a:t>Corsi a scelta Laurea Magistrale - 1° semest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4788000" y="6583320"/>
            <a:ext cx="436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zione Corsi a scelta II Livello – settembre 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577800" y="2992320"/>
            <a:ext cx="840744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iteri di valutazio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conoscenza dei testi indicati in bibliograf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conoscenza degli argomenti trattati nel corso delle lezio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valutazione dell’elaborato di analisi che gli studenti presenteranno all’es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584280" y="1155600"/>
            <a:ext cx="840744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l programma del corso prevede, attraverso l’analisi testuale di film e cortometraggi, una serie di approfondimenti legati alle strutture narrative e significanti del cinema, sia per quanto riguarda il cinema di fiction (dalle sue origini ad oggi), sia per quanto riguarda le forme di ricerca sperimentale dell’immagine-movim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584280" y="4838760"/>
            <a:ext cx="8407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alità d’es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valutazione di una prova scritta e orale in cui si verificherà la capacità di analisi filmica e la relazione tra le diverse parti del cors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ilvia</dc:creator>
  <dc:description/>
  <dc:language>en-US</dc:language>
  <cp:lastModifiedBy/>
  <cp:revision>0</cp:revision>
  <dc:subject/>
  <dc:title>Inserire immagine della locandina, possibilmente in trasparenza e aggiungere Facoltà di Architettura Illustrazione prova di ammissione prof. Silvia Piardi (idem Cedolin)</dc:title>
</cp:coreProperties>
</file>